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4D9-E517-46A2-B73E-1C230497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5C1-3736-4D83-96F7-0EA504E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FB0-FAF0-457F-A582-D14F1A08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7DA-432E-4B3B-B33D-7BC5CF88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B20-17A6-43AE-A35C-B64134A3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FD53-0433-4FCB-A521-9862044B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D86-8455-4619-B6C7-2DB04FE9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9624-CCFF-49C2-A487-B7E82C43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A09-68AF-4DD0-ABDE-4B4FC40E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26F8-A07C-4FDB-8A6F-BCB1D58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511-016B-4ACF-AA7A-22368A3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0DE-3EAB-45FF-AF81-F36019D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822-F104-4F34-9B59-BA58904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2D0-E60F-4377-B6F6-3BC55CC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985-45EC-4756-8374-EF816C8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8048-1A79-4780-9E15-F83F0092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B8D-1ED2-44A2-A8D4-A28BD66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9BD-A6D9-4318-9920-71EEB62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07C-8F8E-4C71-9F4F-59D8F9C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F38-5428-4861-9C19-A4E2031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4C6-7EC9-4A2F-8A3F-0885035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B21-3FA8-48C3-961E-B22009A9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7D9-4FB3-40DB-AA5F-62A8528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809-1087-48B9-AD77-CC94C52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B4E8-8DF7-49A4-8487-D1EDB576972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5B8B-6078-45D4-AB37-5DC074A1438E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600" y="2057400"/>
            <a:ext cx="4648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R SUZANNA RACH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DESAYUN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03364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68444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2438280"/>
            <a:ext cx="243864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00200" y="4648320"/>
            <a:ext cx="243828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64911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1680" y="649044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pas a la ca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4904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so de a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1680" y="41144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rtill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eddar y espinac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9960" y="4266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266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talup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ALMUERZ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34288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486400" y="464832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89280" y="63237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6240" y="6323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h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0680" y="4266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lo a la parr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7640" y="434268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1040" y="42663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za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LA CENA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5239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25146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638680" y="4419720"/>
            <a:ext cx="123696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0440" y="4114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ngo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4114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1920" y="411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abací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2760" y="64911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ta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Arial"/>
              </a:rPr>
              <a:t>PARA EL POSTRE ME GUSTA COM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21004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7242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83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2590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3440" y="41144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pcake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cobertur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5560" y="649044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6440" y="42667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ubierta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4647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a 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440" y="649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0:57Z</dcterms:created>
  <dc:creator>rachimisuz</dc:creator>
  <dc:description/>
  <dc:language>en-US</dc:language>
  <cp:lastModifiedBy>rachimisuz</cp:lastModifiedBy>
  <dcterms:modified xsi:type="dcterms:W3CDTF">2011-04-14T15:04:06Z</dcterms:modified>
  <cp:revision>12</cp:revision>
  <dc:subject/>
  <dc:title>LAS COMIDAS</dc:title>
</cp:coreProperties>
</file>